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96C-113F-4203-922B-47F3EF57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A0B-9D00-46FC-A347-1537CF2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FF0-4186-4BD8-8A9D-D0A492DC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BA6-0982-46AD-9FC7-DFA83D7C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65A-A8C1-4675-8623-60AE13E4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659-3EAD-4974-A3B0-E938910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CAC-2792-448E-AF57-11D35F7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C48-04B5-4D01-B2B4-66B261E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2A4-3B4F-4349-B205-A812FCE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8C7-3CA0-4576-8FB2-D7715BB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1C3-A08F-464D-ADEA-CD76CF5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201-1DB8-41ED-9F84-B749AD9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7BDE-2112-4042-A11E-DA5F533B3F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597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8-11-24T09:42:21Z</dcterms:modified>
  <cp:revision>10</cp:revision>
  <dc:subject/>
  <dc:title>Diapositiva 1</dc:title>
</cp:coreProperties>
</file>